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844-8856-42D3-8D9A-260A05A9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D3F-65AA-4376-B238-EE5449FB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D91-2928-4B79-97A0-471CEFFF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A30-01C0-4F13-ADA9-E99DFB2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C4C-E00E-4087-95B0-20E959C2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8B4-11B7-4207-AA19-DD63FCC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78CF-5842-4C9C-AF67-D0B0E871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00BF-E013-4460-9D46-7E8E5042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D25E-9E0E-4505-9982-4F6E57A4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D800-52FA-48A4-B861-A569BB26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2C15-1DEB-4EF2-BC74-0B5ADCB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FDC-0E7B-4837-953A-0199A192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E014-83B0-413F-ABDE-5BA4851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803-88F7-4055-B6DE-2BB6031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F89-813F-447F-BE18-B7770100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078-6BC6-40A2-9386-3C58D076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AA7D-EA16-4BEC-837A-409C29A0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A90-A955-4652-9B6C-9D873846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DAB-83E0-45EC-93B3-7228D9F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AB4-48BD-4A74-B7DD-0840185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40D-8920-40CA-957C-FE6551D7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8F-20EE-4FA4-9A40-1B2E113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45B-B83B-44A8-ACD4-0654F30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89A-4FE0-4D4D-9533-297C752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5C2-640A-43E3-BDFC-0024C28EB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56C-ACAE-4CF4-BD80-6925E92DB2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ng fro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diti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triol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eed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sign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ne sentence using five words. Must make sens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K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h. 23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w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entence if the word doesn’t already have on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It is the last week of the quar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adver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mi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ncommit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cul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l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0:19:46Z</dcterms:created>
  <dc:creator>rebecca</dc:creator>
  <dc:description/>
  <dc:language>en-US</dc:language>
  <cp:lastModifiedBy>rebecca</cp:lastModifiedBy>
  <dcterms:modified xsi:type="dcterms:W3CDTF">2009-03-06T20:24:56Z</dcterms:modified>
  <cp:revision>1</cp:revision>
  <dc:subject/>
  <dc:title>DOL</dc:title>
</cp:coreProperties>
</file>